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416-4F54-4F9A-BBC2-B409AC8F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680-3953-416C-81B9-B7A8C8E0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124-7580-47A4-A8D8-C6476E9B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521-101A-4C60-815E-EA357F48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DA2-558E-46F6-BCB7-BC6E090C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84B-B579-4AFE-8F90-01713B4A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8A4D-E515-4B9E-BF34-ADC12CF7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B86-87AF-41CB-A3C0-173D1732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7B0-E647-4FD7-9933-BE5BD96E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E966-1408-4C2C-AB6D-5B5448A8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DB0-3C0E-4484-9415-347D22A7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FAC-D970-4696-BCEA-490F4E5F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FC21-FCDA-4658-A1A9-F76CA9D77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Conn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nk Dr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nk Driv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4211640" cy="331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211640" y="836640"/>
            <a:ext cx="4932360" cy="6021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3860640"/>
            <a:ext cx="4211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10945800" cy="80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party or spill over effects are an uncompensated cost to third parties due to the production and/or consumption of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the increase in drunk driving. Increases in spill over costs are created. The spill over costs of drunk driving could be but are not limited to : Health costs to those involved in accident, insurance costs to those who may have been hi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the negative externalities of consumption PMB has moved to SM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ift has increased the spill over costs to third parties. Due to drunk drivers not paying full compensation to third parties, spill over costs ar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ing market failure as third parties lose money due to having to pay for e.g. insurance. Drunk drivers are not interested in them just themsel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7:55:50Z</dcterms:created>
  <dc:creator>Sam</dc:creator>
  <dc:description/>
  <dc:language>en-US</dc:language>
  <cp:lastModifiedBy>Sam</cp:lastModifiedBy>
  <dcterms:modified xsi:type="dcterms:W3CDTF">2008-07-20T20:34:37Z</dcterms:modified>
  <cp:revision>5</cp:revision>
  <dc:subject/>
  <dc:title>George Connell</dc:title>
</cp:coreProperties>
</file>